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A60-08F0-4553-85FF-A6D2DA01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16D-9577-4309-B7EF-168A2CF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2A8-429D-4010-B18E-80D12366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FE4-B177-4A36-BD17-76679851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9352-F000-43C4-8CC3-EE24622A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6677-7DE0-4F87-8A14-35CF4D6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0F06-3C81-4836-997E-9D97DB5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BE6-6CE5-48FD-ADB5-FEA8F8B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ECB-3B94-4202-8B1B-500967FD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E742-4D73-4DAE-AAA5-AD20BEAA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920-B80A-4DC8-902A-AA0DC58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5A2-A3D5-434F-8D52-AD5B6757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A80-C2C3-451D-A4E6-C796D44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B600-F2D3-4C37-B394-B126747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BE6-2B80-4831-BF53-2DA9767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1CA4-BEA7-427A-B6F9-9CAB13B8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367-1B41-4955-BB06-FA1D9FE9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775-EE34-4F46-8C55-01C87976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AE4-B57D-4317-AD63-BE23C44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171-1BBB-41F8-8268-A595435D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162-C351-4B4A-BE1C-1E89174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632-F0A9-4D43-88EB-6EA9AC2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04C-CE6A-452D-8D27-CA5DA46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830-AC76-4C40-AE37-BEF464B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F93-D388-420C-BE71-F1B55E519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2EC-B217-45BE-AA9D-8DEBC3AAC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“deal” with or avoid cyber bully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 Cald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9E1-251D-43BF-BDE1-615C026C0773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he purpose is to help stop cyber bullying at the imiddle school and how to deal with the situation, if it happens to them. Ill be telling about a student who is getting bullied through their their netbook on a chatting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by having people watch my video and having it not be bo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video will be different because I don’t think I have seen anyone do a cyber bullying video yet, so it will being inter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12Z</dcterms:created>
  <dc:creator/>
  <dc:description/>
  <dc:language>en-US</dc:language>
  <cp:lastModifiedBy>City School</cp:lastModifiedBy>
  <dcterms:modified xsi:type="dcterms:W3CDTF">2013-02-20T19:03:29Z</dcterms:modified>
  <cp:revision>39</cp:revision>
  <dc:subject/>
  <dc:title>The Pitch-Then-Plan Business Planning Template</dc:title>
</cp:coreProperties>
</file>